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D22-7DFC-4147-A214-A3258E52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35B-F9B3-48E2-83B7-736ECE76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0D2-91A3-4922-B182-1F126755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C8F-E891-4DD1-B66F-26EA3959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69A-97F4-4C4C-9319-9542FADD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E9F-784B-4061-A42D-8A10EAC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8F9-DA5B-4BD1-BE60-5702645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F7F-6005-4389-8CE1-69EDA0F0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D28-C931-407B-AF58-0C9E1764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21F-DBE8-4017-B329-B8578B3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040-33C7-4370-9DFF-E5C25B51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637-50E7-41BF-BB72-BCBF35A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A1B9-D683-495B-9EBF-1DB6DABC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mmunitycollege.net/jobs/hotjobs.html" TargetMode="External"/><Relationship Id="rId2" Type="http://schemas.openxmlformats.org/officeDocument/2006/relationships/hyperlink" Target="http://www.communitycollege.net/jobs/hotjobs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The After School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With this project, you will be looking at your life in the future.  You will estimate your monthly income, and how it could be s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8560" y="210456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 will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at do I want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ere do I want to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w much money will I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w much money will I REALLY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at will I do with this mon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This project will be presented in a PowerPoint, and MUST be in the proper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THE PowerPoint and worksheets must be saved in an e-f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For all parts, I suggest doing a rough copy in pencil before adding it to the presentation…your answers WIL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r first order of business is to find a job, and research the following important aspec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Job title, description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urs worked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Education and experienc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Gross Monthly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Transferabl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mount of holiday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y this is the perfect job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26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While researching these aspect of your career, you may want to try these si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Matches your personality to your possible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communitycollege.net/jobs/hotjob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This one will help choose a possible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apping-your-future.org/features/careership/match_career.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his one will indicate what your salary might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wz.salary.com/csalarywizard/layoutscripts/cswzl_newsearch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his one will outline job descriptions and responsi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23.hrdc-drhc.gc.ca/2001/e/generic/nocsearch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Videos for your potential car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www.unitedstream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Feel free to aim high…you are all smart enough to do well, but be real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If you were headed to the NHL, you’d already be on your 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Unless you are told specifically, there is an $8000/month ceiling on your ear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PLEASE create an e-folder entitled After School Special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 will use this to store researched info and e-work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Please record all of this information into the first section of your presentation, under the title “My Care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0:30:26Z</dcterms:created>
  <dc:creator>nbdoe</dc:creator>
  <dc:description/>
  <dc:language>en-US</dc:language>
  <cp:lastModifiedBy>nbdoe</cp:lastModifiedBy>
  <dcterms:modified xsi:type="dcterms:W3CDTF">2007-05-01T00:30:36Z</dcterms:modified>
  <cp:revision>1</cp:revision>
  <dc:subject/>
  <dc:title>The After School Special</dc:title>
</cp:coreProperties>
</file>